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14E81-3257-4E4C-A1FC-D0324D384C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9B954-79D6-4EB9-9F0F-E163DE309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D412-76B5-4D8B-9D70-245F4D1F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EA92-9963-4674-9A1F-5C76A7C0A2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FE5D2-EE25-4816-9738-18CBE5869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04A2A-3F4B-4FE6-8618-A27E92DFA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53432-C73E-4C8F-B2BB-7278F504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1D746-D5E8-4C67-9FAD-A2DF99F47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E09D-A1CE-4C59-94F9-7E517B930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7B5C-CEFC-45F4-BA23-C51F8ADF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8840F-6731-494E-A8D6-1122D8889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C7255-04C4-451C-94B8-1C44540EE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B9F6-6E0F-4ADC-8B29-2D5DCB1687B7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四章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与管理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的设置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护理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重症监护病房医院感染管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9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重症监护病房基本设备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耐药细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描述呼吸机相关性肺炎、中心静脉导管相关性血流感染、导尿管相关性尿路感染、多重耐药细菌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CD9B-871F-4D92-A0F3-2CE412D3B5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88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设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释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内容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预防和控制措施减少危重患者的呼吸机相关性肺炎、导管相关血流感染、导尿管相关性尿路感染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施多重耐药细菌感染的预防和控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8928-81CF-4262-86F9-4B3DBA98519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61167-14EF-4E42-B959-F8594A6332F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的设置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95280" y="17856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重症监护病房的设置原则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重症监护病房的分区环境和布局设置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重症监护病房基本设备要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护理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的人员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护理安全和质量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三节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重症监护病房医院感染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病房感染控制基本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控感人员进行重症监护感染管理目标监测的培训，确定感染源和危险因素，及时发现感染的暴发和聚集，给予及时的控制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动态监测入住</a:t>
            </a: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ICU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患者呼吸道、泌尿道、血液及伤口的致病微生物及药物敏感的监测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定护理规章和流程，培训医务人员，并且监督其正确执行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正确处理环境和设备，如空气净化处理，呼吸机及管路的清洗、消毒和使用，床旁血滤机器操作，纤维支气管镜的清洗、消毒和使用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合理应用抗生素，达到减少院内耐药细菌的产生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399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6. 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对职工进行保健和教育，保证医务人员的安全和健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医院感染的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工作人员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患者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访客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物品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环境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抗菌药物管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废物与排泄物管理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ICU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常见的医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呼吸机相关性肺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(ventilator associated pneumonia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VAP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中心血管内导管相关性血流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entral line associated  blood stream infections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LABS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导尿管相关性尿路感染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theter associated urinary tract infection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CAUTI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多重耐药细菌感染的预防和控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hzg</cp:lastModifiedBy>
  <cp:lastPrinted>1899-12-30T00:00:00Z</cp:lastPrinted>
  <dcterms:modified xsi:type="dcterms:W3CDTF">2015-08-28T05:42:11Z</dcterms:modified>
  <cp:revision>5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